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radypnoe/Apno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 flipV="1">
            <a:off x="3313080" y="2729520"/>
            <a:ext cx="2699280" cy="13528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1" name=""/>
          <p:cNvCxnSpPr>
            <a:stCxn id="98" idx="3"/>
            <a:endCxn id="102" idx="1"/>
          </p:cNvCxnSpPr>
          <p:nvPr/>
        </p:nvCxnSpPr>
        <p:spPr>
          <a:xfrm flipV="1">
            <a:off x="3313080" y="4080600"/>
            <a:ext cx="2699280" cy="18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eeinträchtig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temmuskulatu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8" idx="3"/>
            <a:endCxn id="103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eeinträchtig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tem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ompensation ei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etabol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lkal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0440" y="54936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radypnoe/Apno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ompensation ei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etabol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lkal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92240" y="549360"/>
            <a:ext cx="66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radypnoe/A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ompensation ein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etabolisch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lkal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Verlu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äu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7" idx="3"/>
            <a:endCxn id="10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1" name=""/>
          <p:cNvCxnSpPr>
            <a:stCxn id="107" idx="3"/>
            <a:endCxn id="112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0280" y="6363360"/>
            <a:ext cx="196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6" idx="3"/>
            <a:endCxn id="11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äu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brechen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inem Mageninha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91520" y="549360"/>
            <a:ext cx="76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radypnoe/Apno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ompensation ein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etabolisch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lkalo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von Säu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brechen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inem Mageninha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6640" y="549360"/>
            <a:ext cx="81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Bradypnoe/Apnoe &gt; Kompensation einer metabolische Alkalose &gt; 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von Säure &gt; Erbrechen von reinem Mageninha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3"/>
            <a:endCxn id="12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ylorussten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obstruierender Fremdkörp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m Anfangsteil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ünndarm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einträchtig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em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7720" y="549360"/>
            <a:ext cx="63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radypnoe/Apnoe &gt; Beeinträchtigung des Atem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3"/>
            <a:endCxn id="12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ark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eoplasie des ZN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3440" y="6396840"/>
            <a:ext cx="29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NS = zentrales Nervensyst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einträchtig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emmuskulatu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360" y="549360"/>
            <a:ext cx="65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Bradypnoe/Apnoe &gt; Beeinträchtigung der Atemmuskulatu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1" idx="3"/>
            <a:endCxn id="13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otul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etanu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6T09:39:24Z</dcterms:modified>
  <cp:revision>328</cp:revision>
  <dc:subject/>
  <dc:title>Vorstellung einer Neuheit</dc:title>
</cp:coreProperties>
</file>